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2A58-8514-47D7-8418-03EB61A5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9F21-5671-424A-9D69-B84E4385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845A-53C0-4F1C-839D-BA6A574BA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586F-901B-4CB7-BD86-F8DDBE26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866E-41DF-4D26-86A4-3756731E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457F-CB67-4A1C-8534-34E27504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D373-9402-4A76-B795-2915D247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5B67-67F2-4BE0-9156-2E71AB72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BF27-A0FF-48CA-A50C-D66F3603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E3AB-D305-402D-846B-A2AAB527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41B8-B73A-4FDE-AAC8-49766DDE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5A8E-BDBC-4597-8CF5-D8A915D7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6AD2-460D-43D0-B0DD-B3E3462E8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000"/>
            <a:ext cx="8229600" cy="55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6FAD-CF7A-4539-80CD-9BC08BE3C0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668520"/>
            <a:ext cx="7993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В начальный момент времени (например, после подачи питания на маршрутизаторы) таблица маршрутов в узле  выглядит следующим образом (т.к. узел  знает только о тех сетях, к которым подключен непосредственно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Следовательно, узел  рассылает в сети А и В вектор расстояний (А=1,В=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2B0E-D20F-4CCF-85ED-CEA34F78A4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80828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675000"/>
            <a:ext cx="79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оскольку сети C и D вовсе не фигурируют в его таблице маршрутов, они туда вносятся. В узле  имее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A=1à 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C=2à 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D=2à ‚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7280" y="6058080"/>
            <a:ext cx="8496360" cy="363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9280" y="1093320"/>
            <a:ext cx="79930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Сеть Е в таблице узла  отсутству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3à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 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28C7-BC5E-4A5A-808B-6AC52C34EC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7280" y="123336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674640"/>
            <a:ext cx="8064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Итоговая таблица маршрутов маршрутизатора 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2à ƒ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7DF0-4CD6-4DB0-A1ED-2428C73523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7280" y="126828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6920" y="88560"/>
            <a:ext cx="781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Изменение состояния RIP-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Выясним, что происходит в случае, когда состояние системы неожиданно изменяется, например, маршрутизатор  отключается от сети 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11280" y="3033720"/>
            <a:ext cx="64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4CB0-BBF5-4B18-AF17-7592A5E592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6360" y="694800"/>
            <a:ext cx="8028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16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16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16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2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Вектор расстояний, построенный на основании этой таблицы, рассылается в сеть В, чтобы маршрутизаторы, направлявшие свои данные через  в ставшие недоступными сети, если таковые маршрутизаторы существуют, соответственно изменили свои маршрутные таблиц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CE22-0C15-4211-8952-F986F8E2B2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873000"/>
            <a:ext cx="7993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В узле ƒ имелась следующая таблица маршрут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1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2à „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1à 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F4D4-25EB-41FE-AAAB-B36A15FCDC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6360" y="885960"/>
            <a:ext cx="7920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3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2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3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2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Таким образом, узел  построил маршруты в обход поврежденного участка и восстановил достижимость всех сетей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8EEC-2108-4480-9E65-395E2B715F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1680120"/>
            <a:ext cx="795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2. Особые случа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Зацикли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2. Счет до бескон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4A1E-AF1B-4BE6-BDC2-4FFBD34B02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1233360"/>
            <a:ext cx="849600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92000" y="403920"/>
            <a:ext cx="78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Изменение состояния RIP-системы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50920" y="2060640"/>
            <a:ext cx="716616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4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ahoma"/>
              </a:rPr>
              <a:t>Протокол RI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600C-19BC-42E3-B1AB-1CDD579B58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657360"/>
            <a:ext cx="849636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1640" y="327600"/>
            <a:ext cx="8712360" cy="62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ƒ отправлял дейтаграммы в сеть А через  , то есть таблица в узле ƒ имела вид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A=2à 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1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2à „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1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осле отсоединения  от сети А узел ƒ получает от  вектор (A=16,B=1,C=16,D=16,E=2). Проанализировав этот вектор, ƒ делает вывод, что все указанные в нем расстояния больше значений, содержащихся в его маршрутной таблице, на основании чего этот вектор узлом ƒ игнориру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5658-D6FC-4999-9AE0-CDD0152ADF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792000"/>
            <a:ext cx="792144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3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2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3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2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Очевидно, после этого содержимое таблиц узлов  и ƒ стабилизируется.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FB8A-6EAE-4135-BA63-18679314A7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7640" y="-72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Счет до бесконе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76360" y="1449360"/>
            <a:ext cx="6948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D99A-B652-4FB6-AA81-0B8641C992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9280" y="40680"/>
            <a:ext cx="7740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ервоначально сеть А была подсоединена к узлу‚ но в какой-то момент времени произошла авария и сеть А оказалась изолирован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До момента аварии маршрутизаторы имели следующие записи относительно сети 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Узел ‚ А=1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Узел ƒ А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Узел „ А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Немедленно после аварии запись в таблице маршрутов узла А изменяется на А=16à ‚ , это говорит о том, что сеть А недостижима, а точнее, что сеть А через узел ‚ недостижим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E2BB-BED7-4A0B-97FB-8D129B21EE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7640" y="1736640"/>
            <a:ext cx="802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Вектор расстояний, рассылаемый из ‚ , с элементом A=16 достигает узла ƒ , но по какой-то причине задерживается на пути в „ . Согласно дополнениям к алгоритму рассылки векторов расстояний, приведенным в предыдущем пункте, узел ƒ вносит в свою таблицу запись А=16à ‚ и рассылает вектор с элементом А=1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317D-DAB1-4984-8001-B5DEFB4041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9280" y="2546280"/>
            <a:ext cx="78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В этот момент узел „ , до которого сообщение от узла ‚ о недостижимости сети А еще не дошло, рассылает в сети Е свой вектор с элементом А=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32C2-C752-4C3C-AD29-CEE65EC501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2574000"/>
            <a:ext cx="79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Узел ‚ , руководствуясь теми же соображениями, что и узел ƒ ранее, модифицирует свою таблицу: А=4à ƒ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4360" y="1773720"/>
            <a:ext cx="799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Узел ƒ получает этот вектор, прибавляет к расстоянию 1 и замечает, что оно меньше записанного в таблице (бесконечность), следовательно, в таблице маршрутов узла ƒ появляется запись А=3à „ . Вектор расстояний с элементом А=3 рассылается узлом ƒ в сети С и достигает узла ‚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4360" y="1480680"/>
            <a:ext cx="795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имерно в это время узел „ получает наконец-то вектор А=16, отправленный после аварии узлом ‚ , но вслед за этим из узла ‚ приходит вектор А=4, который узел ‚ рассылает в сети D. Поскольку „ отправляет дейтаграммы в сеть А через ‚ , он обязан реагировать на любые объявления узлом ‚ расстояния до сети А. Поэтому в таблице узла „ появляется А=5à ‚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47640" y="740160"/>
            <a:ext cx="7956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ahoma"/>
              </a:rPr>
              <a:t>3. Реализация протокола R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Существуют две версии протокола RIP: RIP-1 и RIP-2. Версия 2 имеет некоторые усовершенствования, как то: возможность маршрутизации сетей по модели CIDR (кроме адреса сети передается и маска), поддержка мультикастинга, возможность использования аутентификации RIP-сообщений и д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47640" y="1770840"/>
            <a:ext cx="81374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Содерж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Алгоритм построения таблицы маршру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собые случа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Реализация протокола R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1280" y="475920"/>
            <a:ext cx="7956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Типы и формат сообщ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В протоколе RIP имеются два типа сообщений, которыми обмениваются маршрутизатор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ответ (response) - рассылка вектора расстоян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запрос (request) - маршрутизатор (например, после своей загрузки) запрашивает у соседей их маршрутные таблицы или данные об определенном маршру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Обмен сообщениями происходит по порту 520 UDP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58920" y="15876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Формат сообщений обоих типов одинаков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1030680" y="2239200"/>
            <a:ext cx="11080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RIP packet format"/>
          <p:cNvPicPr/>
          <p:nvPr/>
        </p:nvPicPr>
        <p:blipFill>
          <a:blip r:embed="rId1"/>
          <a:stretch/>
        </p:blipFill>
        <p:spPr>
          <a:xfrm>
            <a:off x="503280" y="1449360"/>
            <a:ext cx="8316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76360" y="725760"/>
            <a:ext cx="792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оле "Command" определяет тип сообщения: 1 - request, 2 - response; поле "Version" - версию протокола (1 или 2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оле "Address Family Identifier" содержит значение 2, которое обозначает семейство адресов IP; другие значения не определены. Поля "IP address" и "Metric" содержат адрес сети и расстояние до не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31640" y="1089000"/>
            <a:ext cx="82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и получении сообщения типа "ответ" для каждого содержащегося в нем элемента вектора расстояний модуль RIP выполняет следующие действ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веряет корректность адреса сети и маски, указанных в сообщен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веряет, не превышает ли метрика (расстояние до сети) бесконеч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некорректный элемент игнорирует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9640" y="201744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- если метрика меньше бесконечности, она увеличивается на 1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роизводится поиск сети, указанной в рассматриваемом элементе вектора расстояний, в таблице маршруто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55640" y="1413000"/>
            <a:ext cx="795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- если запись о такой сети в таблице маршрутов отсутствует и метрика в полученном элементе вектора меньше бесконечности, сеть вносится в таблицу маршрутов с указанной метрикой; в поле "Следующий маршрутизатор" заносится адрес маршрутизатора, приславшего сообщение; запускается таймер для этой записи в таблиц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19280" y="1917720"/>
            <a:ext cx="7956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- если искомая запись присутствует в таблице с метрикой больше, чем объявленная в полученном векторе, в таблицу вносятся новые метрика и, соответственно, адрес следующего маршрутизатора; таймер для этой записи перезапускает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19280" y="1197000"/>
            <a:ext cx="79200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сли искомая запись присутствует в таблице и отправителем полученного вектора был маршрутизатор, указанный в поле "Следующий маршрутизатор" этой записи, то таймер для этой записи перезапускается; более того, если при этом метрика в таблице отличается от метрики в полученном векторе расстояний, в таблицу вносится значение метрики из полученного вектор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-  во всех прочих случаях рассматриваемый элемент вектора расстояний игнориру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87280" y="298440"/>
            <a:ext cx="8353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Общий порядок действий при конфигурировании модуля RIP следующи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указать, какие сети, подключенные к маршрутизатору, будут включены в RIP-систе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указать "nonbroadcast networks", т.е. сети со статической маршрутизацией (например, тупиковые сети, подсоединенные к внешнему миру через единственный шлюз), куда не нужно рассылать векторы расстоя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указать "permanent routes" - статические маршруты, например, маршрут по умолчанию за пределы автономной систе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ff"/>
                </a:solidFill>
                <a:latin typeface="Tahoma"/>
              </a:rPr>
              <a:t>Вопросы для самопроверки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6360" y="1341360"/>
            <a:ext cx="7777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Дайте сравнительную характеристику протоколов RIP и OSPF. Определите область применения каждого из н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 какому типу протокола маршрутизации относиться R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 часто распространяется вектор расстояний в RIP системе по умолчани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ие Исключительные ситуации в RIP системе вы зна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В чем отличие версии протокола RIP-1 от RIP-2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82B1-C7F1-43B8-8F37-D24D89218B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1683360"/>
            <a:ext cx="817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ротокол RIP является дистанционно-векторным протоколом внутренней маршрутизации. Процесс работы протокола состоит в рассылке, получении и обработке векторов расстояний до IP-сетей, находящихся в области действия протоко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2965-0E69-4902-82A3-297BF8BB5D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1933920"/>
            <a:ext cx="795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Результатом работы протокола на конкретном маршрутизаторе является таблица, где для каждой сети данной RIP-системы указано расстояние до этой сети (в хопах) и адрес следующего маршрутизато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1C25-C53C-4AA9-AA09-BCC0F5F056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904320"/>
            <a:ext cx="828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. Алгоритм построения таблицы маршру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А=2à 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Это означает, что расстояние от данного маршрутизатора до сети А равно 2, а дейтаграммы, следующие в сеть А, надо пересылать маршрутизатору ƒ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02D6-DB60-413C-947E-33E4BC93E2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7640" y="1933200"/>
            <a:ext cx="777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Вектором расстояний называется набор пар ("Сеть", "Расстояние до этой сети"), извлеченный из таблицы маршру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Это элементом вектора расстоя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8127-47F3-463A-9F6F-BB8CA37743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9280" y="1700280"/>
            <a:ext cx="78850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Каждый маршрутизатор, на котором запущен модуль RIP, периодически широковещательно распространяет свой вектор расстояний. Вектор распространяется через все интерфейсы маршрутизатора, подключенные к сетям, входящим в RIP-систе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Каждый маршрутизатор также периодически получает векторы расстояний от других маршрутизаторов</a:t>
            </a: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2332-C2EA-4F7E-9245-95BFFBFCD5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800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60280"/>
            <a:ext cx="810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Пример построения таблицы маршру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Здесь  , ‚ , ƒ , „  - маршрутизаторы, A, B, C, D, E - сети. Хосты в сетях не показаны за ненадобностью. Мы будем следить за формированием таблицы маршрутов в узле 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58920" y="3213000"/>
            <a:ext cx="70930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53:48Z</dcterms:modified>
  <cp:revision>148</cp:revision>
  <dc:subject/>
  <dc:title>Lecture Template </dc:title>
</cp:coreProperties>
</file>